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9FCE-0F2B-4CD9-AA09-56621DAFB1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BF58-C899-4AD7-9E4F-D4735DE3DC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23C5-B102-4D7C-BC9E-6DC34688DD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A93-BE13-4492-B476-5F278644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BDD-895D-442A-B4AA-997587DE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1EA-4EEA-4D61-9AF6-FE8F0030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5DA-9317-4AF0-900E-70033EFD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B5D-7339-4CCE-96EE-63404C82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ACA-8AF1-4D32-9E4D-C2DEE884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BE1-FBCB-4CA6-AEEA-241470FC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3C7-4E86-49DB-8975-DABBC6F9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DF3-C26B-45AF-BF96-00B48801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51A-D007-4610-A84B-CAAAE988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D4B-4B3C-4658-A2DF-50FD178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913-25CC-4665-AF89-DA89A1CF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D358-6766-4037-86A1-4D6748340A9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M.Pahomova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E.M.Pahomova@gmail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53520" cy="127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ероприятия 2-о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Найдите слова-синони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флекс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содержания, использованных технологий и достигнутых результатов поставленным цел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замысла и реально развернувшейся учебной ситу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точность анализа учебного занятия и рефлексии своей дея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3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ическое объедине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еседа с учащими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(регламент до 20 мину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Формат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суждение с учащимися актуального для них вопроса в режиме импров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ок возможных вопросов для обсуждения , возрастной и количественный состав группы учащихся определяются участниками финала конкурса на установочном семинар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кретный вопрос для обсуждения  выбирают учащиеся на основе списка возможных вопросов непосредственно перед началом и представитель учащихся называет вопрос, выбранный груп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убина и воспитательная ценность организованного обсужд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оздавать и поддерживать атмосферу взаимоуважения и толерантност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организовывать взаимодействие учащихся между собо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лушать, слышать и понимать позиции учащихся, адекватно и педагогически целесообразно реагировать на них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включить каждого учащегося в обсуждение и формирование вывод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азговор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ыявить и сформулировать педагогическую проблем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найти и предложить пути реш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заимодействовать с коллегами и родителя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в принятии коллективного реш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Мероприятия 3-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5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ученического, педагогического, родительского сообществ и общественности, отражающего значение преподаваемого предмета для формирования мировоззрения и общекультурных компетен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517680" y="176040"/>
            <a:ext cx="8418240" cy="14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85880" y="1844280"/>
            <a:ext cx="7858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«Методическое объединение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представление  педагогического  опыта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(по  идее конкурса  -  инновационного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й семина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гламент до 12 минут, включая вопрос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   выявлять и применять инновационные идеи в своей  профессиональн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7505640" cy="117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Гузалия Гилязовна Ибатуллина</cp:lastModifiedBy>
  <dcterms:modified xsi:type="dcterms:W3CDTF">2012-12-18T11:54:58Z</dcterms:modified>
  <cp:revision>35</cp:revision>
  <dc:subject/>
  <dc:title>Представление опыта</dc:title>
</cp:coreProperties>
</file>